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01E-A1FC-4C1F-8196-22F137B2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6B57-CA2A-4526-AD7E-D09C788E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AE9D-D528-4819-BCA2-AA13813B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6CA2-A599-492B-AC2C-541ADB5C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B69-83D7-4AD1-B997-F0F64FEF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A74B-8555-4B1E-AF6D-5BEB1D9E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E8B-CFD9-402F-B894-44D253E0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CD22-573A-4D67-8803-811C3110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9EB0-07E7-4742-9C0E-1E526742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48A-E362-4920-A7BD-FFC48597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DC0A-9E03-4A6C-9060-3441146E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336-FC53-47D9-B11D-22FDBFED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0B9A-500F-4EC9-9971-A3FEC7972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litopys.net/img/thisday/Mart/20-03/snegirev.jpg"/>
          <p:cNvPicPr/>
          <p:nvPr/>
        </p:nvPicPr>
        <p:blipFill>
          <a:blip r:embed="rId2"/>
          <a:stretch/>
        </p:blipFill>
        <p:spPr>
          <a:xfrm>
            <a:off x="171360" y="4334040"/>
            <a:ext cx="2041560" cy="2481120"/>
          </a:xfrm>
          <a:prstGeom prst="rect">
            <a:avLst/>
          </a:prstGeom>
          <a:ln w="0">
            <a:noFill/>
          </a:ln>
        </p:spPr>
      </p:pic>
    </p:spTree>
  </p:cSld>
  <p:transition advTm="0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3:06:54Z</dcterms:created>
  <dc:creator>Helen</dc:creator>
  <dc:description/>
  <dc:language>en-US</dc:language>
  <cp:lastModifiedBy>Берюхов</cp:lastModifiedBy>
  <dcterms:modified xsi:type="dcterms:W3CDTF">2025-11-30T08:01:56Z</dcterms:modified>
  <cp:revision>6</cp:revision>
  <dc:subject/>
  <dc:title>Слайд 1</dc:title>
</cp:coreProperties>
</file>